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54F8-2E9F-4AED-8112-F9DD38D9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7EEA-B3BC-49C3-B15B-1DED97F61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8057-4B2E-43F1-8C76-57F829CBE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0D5E-E41D-455C-AC81-927795BEB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F4E5-7CE7-4A06-B4C3-9A27CD8A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0FF5-EC91-486F-9682-DC47076A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7A05-88B4-4F9C-AE3F-B6F9DA4D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BEC2-9389-42C0-A2B1-8B9FBAB63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115-BF1C-4A85-A5C0-0ABA4F7DC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4C7-5665-4C9E-B5B2-2B05C876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218D-C5E7-4D57-AFDE-720C614F4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B514-E8E3-437C-B696-B6DE444D2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5449F-2180-41B4-A92D-F8F021D5A0F7}" type="slidenum">
              <a:rPr b="0" lang="pl-P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66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79640" y="1197000"/>
            <a:ext cx="518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ZAMKI </a:t>
            </a:r>
            <a:br>
              <a:rPr sz="8800"/>
            </a:br>
            <a:r>
              <a:rPr b="1" lang="en-US" sz="8800" spc="-1" strike="noStrike">
                <a:solidFill>
                  <a:srgbClr val="006600"/>
                </a:solidFill>
                <a:latin typeface="Arial"/>
              </a:rPr>
              <a:t>w POLSCE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79280" y="692280"/>
            <a:ext cx="3095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Warsza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187280" y="4724280"/>
            <a:ext cx="770580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, a także siedzibą sejmu i senat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5648040" cy="42372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059280" y="333360"/>
            <a:ext cx="5886360" cy="3575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46" name=""/>
          <p:cNvSpPr/>
          <p:nvPr/>
        </p:nvSpPr>
        <p:spPr>
          <a:xfrm>
            <a:off x="324000" y="98100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ólews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na Wawelu w Krakowi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42920" y="4581360"/>
            <a:ext cx="705816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amek był rezydencją królewską aż do początku XVII wie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pełni rolę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24000" y="981000"/>
            <a:ext cx="23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krzyżacki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w Malbork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4797360"/>
            <a:ext cx="820728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ezdobyta twierdza wielkiego mistrza podczas oblężenia przez wojska polsko-litewskie pod wodzą króla Władysława Jagiełły po bitwie grunwaldzkiej w 1410 roku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ecnie zamek jest siedzibą muze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43280" y="189000"/>
            <a:ext cx="6121440" cy="4591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4000" y="98100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Zamek </a:t>
            </a:r>
            <a:br>
              <a:rPr sz="3600"/>
            </a:br>
            <a:r>
              <a:rPr b="1" lang="en-US" sz="3600" spc="-1" strike="noStrike">
                <a:solidFill>
                  <a:srgbClr val="006600"/>
                </a:solidFill>
                <a:latin typeface="Arial"/>
              </a:rPr>
              <a:t>Ksią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31640" y="4365720"/>
            <a:ext cx="828072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anowi jeden z elementów Szlaku Zamków Piastowskich. Jest to trzeci co do wielkości zamek w Polsce (po zamku   w Malborku i Zamku Królewskim na Wawelu).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becnie część zespołu pałacowego jest udostępniona dla zwiedzający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492360" y="189000"/>
            <a:ext cx="5435640" cy="407808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5ca00"/>
            </a:gs>
            <a:gs pos="50000">
              <a:srgbClr val="ffffff"/>
            </a:gs>
            <a:gs pos="100000">
              <a:srgbClr val="95c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6600"/>
                </a:solidFill>
                <a:latin typeface="Arial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6165720"/>
            <a:ext cx="34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Arial"/>
              </a:rPr>
              <a:t>źródło: www.wikipedia.or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0T16:11:17Z</dcterms:created>
  <dc:creator>Administrator</dc:creator>
  <dc:description/>
  <dc:language>en-US</dc:language>
  <cp:lastModifiedBy>Administrator</cp:lastModifiedBy>
  <dcterms:modified xsi:type="dcterms:W3CDTF">2006-06-13T21:28:38Z</dcterms:modified>
  <cp:revision>15</cp:revision>
  <dc:subject/>
  <dc:title>Slajd 1</dc:title>
</cp:coreProperties>
</file>